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5560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28800" y="744120"/>
            <a:ext cx="4951440" cy="371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5560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293-A54F-4035-9685-94430975E8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3C7F-A7C4-4DC3-A268-1182EAEB8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D979-8E2D-44D9-BE93-07C89BF48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BE9B-0531-450B-81E4-4163BDD71D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4F66-D6D3-49EF-A4D5-1A5C8F74B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607A-2574-4C65-9F03-E275E4725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CFF6-5324-42DB-8B6F-199E9E2F01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5A34-E414-4877-B17B-9376F3C75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653-E413-4829-915D-6815FE3F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7E8-D2F5-4685-BC89-C1864D84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827-7669-4F73-8EE3-9B61B7E8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33C-E3A9-4931-A22A-08B05246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B89-56A0-4EC7-BCFD-FAE49B61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5E6-49F5-4400-9727-B5FED1C4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267-8B4F-4788-9EC6-6FCA92FB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0F3-5BE7-40E7-8998-45EBAC46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79640" y="183960"/>
            <a:ext cx="640872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A1B-A1B8-4E21-A188-0573D473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113-FCB6-491E-B1EF-0594F082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0BA-177F-4732-AB29-AF6837F3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376-8552-4EC9-BACE-EDCAC650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0"/>
            <a:ext cx="1763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440"/>
            <a:ext cx="1763640" cy="111600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753" h="559">
                <a:moveTo>
                  <a:pt x="0" y="0"/>
                </a:moveTo>
                <a:cubicBezTo>
                  <a:pt x="583" y="0"/>
                  <a:pt x="583" y="0"/>
                  <a:pt x="583" y="0"/>
                </a:cubicBezTo>
                <a:cubicBezTo>
                  <a:pt x="676" y="0"/>
                  <a:pt x="753" y="76"/>
                  <a:pt x="753" y="170"/>
                </a:cubicBezTo>
                <a:cubicBezTo>
                  <a:pt x="753" y="389"/>
                  <a:pt x="753" y="389"/>
                  <a:pt x="753" y="389"/>
                </a:cubicBezTo>
                <a:cubicBezTo>
                  <a:pt x="753" y="483"/>
                  <a:pt x="676" y="559"/>
                  <a:pt x="583" y="559"/>
                </a:cubicBezTo>
                <a:cubicBezTo>
                  <a:pt x="0" y="559"/>
                  <a:pt x="0" y="559"/>
                  <a:pt x="0" y="55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915480" y="6237000"/>
            <a:ext cx="17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DC39-FDB5-4A1F-B78D-2AE27BB66FBD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eacea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7682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arrows_02"/>
          <p:cNvPicPr/>
          <p:nvPr/>
        </p:nvPicPr>
        <p:blipFill>
          <a:blip r:embed="rId3"/>
          <a:stretch/>
        </p:blipFill>
        <p:spPr>
          <a:xfrm>
            <a:off x="7313760" y="-27000"/>
            <a:ext cx="1830240" cy="13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icon"/>
          <p:cNvPicPr/>
          <p:nvPr/>
        </p:nvPicPr>
        <p:blipFill>
          <a:blip r:embed="rId4"/>
          <a:stretch/>
        </p:blipFill>
        <p:spPr>
          <a:xfrm>
            <a:off x="450720" y="6237360"/>
            <a:ext cx="398520" cy="430200"/>
          </a:xfrm>
          <a:prstGeom prst="rect">
            <a:avLst/>
          </a:prstGeom>
          <a:ln w="0">
            <a:noFill/>
          </a:ln>
        </p:spPr>
      </p:pic>
      <p:sp>
        <p:nvSpPr>
          <p:cNvPr id="11" name="Line 13"/>
          <p:cNvSpPr/>
          <p:nvPr/>
        </p:nvSpPr>
        <p:spPr>
          <a:xfrm>
            <a:off x="450720" y="6165720"/>
            <a:ext cx="824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55700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EUROPASS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2011  </a:t>
            </a: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Management and Financial issue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ACEA – Education, Audiovisual and Culture Executive Agency</a:t>
            </a:r>
            <a:br>
              <a:rPr sz="2400"/>
            </a:br>
            <a:br>
              <a:rPr sz="24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Vyte Ezerskien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Pascale Storm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Filip Steppe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21C0-7EC7-4DE6-BABE-04EB23B0275A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Financial report 201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Costs -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 Two type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A. Direct costs (staff, travels, ICT, equipment, operating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B. Indirect costs (eligible only if not covered already by another operating grant,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Revenue part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C funding limited by the EC decision (see art.1.3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uropass con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Other sources of incom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C6BB-55B7-4687-85C0-AEA4BAB779EE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REPORTING :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 beneficiary certifies on his honour that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formation contained in the final report is full, reliable and true,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 costs incurred can be considered eligible in accordance with the grant agree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costs are substantiated by adequate supporting documents that can be checked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474B-5440-4C16-AF95-91C088514332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 costs meet the following criteria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tually incurre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during the du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 as specified in the Grant Decision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nnected with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the subject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the work programm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d 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ndicated in the estimate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verall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budget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79AE-EE3F-4047-91D8-47635396CE59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ecessary for implement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P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dent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ver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, (i.e recorded in the accountancy of the beneficiary, determined according to th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standards of the count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to the usual cost-accounting practices of the beneficiary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mpl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with the requirements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applicable tax and social legislations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C4EB-190B-4D76-9193-8F86F9DEF13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easonable, justified, comply with the requirements of sound financial management (i.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economy and efficiency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counting/internal auditing procedures must permit direct reconciliation of the costs and revenue declared in respect of the work programme with the corresponding accounting statements and supporting docum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8CAB-3DFD-49BA-A627-E593FDB114A6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 (on the payroll of the centr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cludes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ctual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salaries plus social security charges and other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statuto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sts, provided that this does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ot exceed the average rat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rresponding to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beneficiary's </a:t>
            </a: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usual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policy on remune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eligible: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bonuses, leased car, expense account schemes, incentive, payments or profit-sharing scheme</a:t>
            </a: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4B58-3379-4DD8-AC75-EFF12B7BCD57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09760" indent="-609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Only working days in work plan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Part-time, the pro-rata stated (time sheets, report)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Wages for employees –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employment contrac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Do not include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 ad hoc external staff, which is purchase of services (e.g.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service and consultancy contract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Keep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original time-sheets signed (name, function, percentage of time if working on several actions etc.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aff contracts, payslips and related payment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0E95-E348-4997-B4C1-1FD85E587629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staff only (otherwise in “other costs”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ates must correspond to the beneficiary’s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usual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practices (contract art.9.2 or II.14.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aily allowance for each day of meeting (include all costs e.g. meals and local transport, travel and accident insurance)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Number of nights = meeting days + 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Keep all justifying documents &amp; signed mission repor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8889-570E-44FF-878B-83AF16F169C1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ny activities …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igible countri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r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". (Section 5.2. Eligible activities)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…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ravels …outside eligible countries … be accepted in exceptional and duly justified cases, i.e.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proven added value in terms of policy and content related to the network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…prior agreement of EACEA … requested... " (ToR section 9.5. Eligible costs,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.B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65CF-FCEC-493E-AFDF-DEB13AEC55EA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Conversion ra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xpenses are converted into EUR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t the monthly accounting rate established by the European Commission and published on its website, for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first month of the eligibility perio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6777-8C64-4747-80DA-2405D8135847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am in P3, EACEA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ad map 2010 -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nt request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nci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OPERATING COSTS &amp; OVERHEA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 beneficiary may be awarded only one operating grant from the budget per financial year.” - (R.F. Article 111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centre receiving another operating grant, indirect costs are not eligible under EUROPASS budge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AC4C-FD29-4212-B39C-5AF87DAB46F2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INELIGIBLE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6699"/>
                </a:solidFill>
                <a:uFillTx/>
                <a:latin typeface="Arial"/>
              </a:rPr>
              <a:t>VAT: Costs must be presented VAT excluded</a:t>
            </a: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, unless you cannot recover it (for private legal entities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UT “By derogation to Article 9.3. of the General Conditions, seventh indent, VAT paid by public bodies shall </a:t>
            </a:r>
            <a:r>
              <a:rPr b="1" lang="nl-BE" sz="3200" spc="-1" strike="noStrike">
                <a:solidFill>
                  <a:srgbClr val="336699"/>
                </a:solidFill>
                <a:latin typeface="Arial"/>
              </a:rPr>
              <a:t>never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e an eligible cost."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Contributions in kin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F880-E7B8-4AE9-8D76-7889EFDF31DD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F884-8910-4B01-B194-50365A380B94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CEA Europass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Head of Unit (Legal representativ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HALLER-BLOCK U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Financi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OPHANSAY Phetsamon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EPPE Filip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ORME Pascale – financial co-ordin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Operation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ZERSKIENE Vy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6699"/>
                </a:solidFill>
                <a:latin typeface="Arial"/>
              </a:rPr>
              <a:t>BOTTI Renat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EACEA-EUROPASS@ec.europa.e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3. Road map 2010 – 2011 </a:t>
            </a:r>
            <a:br>
              <a:rPr sz="2400"/>
            </a:br>
            <a:r>
              <a:rPr b="1" lang="fr-BE" sz="2400" spc="-1" strike="noStrike">
                <a:solidFill>
                  <a:srgbClr val="ff9900"/>
                </a:solidFill>
                <a:latin typeface="Arial"/>
              </a:rPr>
              <a:t>(May-November 2011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267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agreements/decisions 2011 (all done except 3 suspended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prefinancing 80% (will be finalised mid May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ober/November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October 2011 – Terms of Reference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November 2011 – DEADLINE - Grant request (GRF)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ynthesis Repor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8 –  will be disseminated in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9 – being drafted (July 2011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ant applications 20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34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grant applicat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ew centres: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Croatia, Malt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requested: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067.162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available: 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160.000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nal Reports 20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ll final reports receiv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inal Grant requested: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1.914.629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Max Grant available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:   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2.100.000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valuation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May-Ju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Payment of final balance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end May-mid Jul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42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Logo of Lifelong Learning Programm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cknowledge - European Union's contribution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O LLP logo → grant may be reduced or agreement/decision terminated (article 10.4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Financial and contractu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IGIBLE BENEFICIA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designated bodies can be signatory of  the EC EUROPASS Decisions/agreements and receive the fun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the beneficiary that receive the grant and which receive the funds can charge its costs in the frame of its Europass contrac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FE7B-C2E9-4013-839C-D5D99BC1C27F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0:44:45Z</dcterms:created>
  <dc:creator>bruyaol</dc:creator>
  <dc:description/>
  <dc:language>en-US</dc:language>
  <cp:lastModifiedBy>sadia.khokhar</cp:lastModifiedBy>
  <dcterms:modified xsi:type="dcterms:W3CDTF">2011-05-12T09:30:42Z</dcterms:modified>
  <cp:revision>195</cp:revision>
  <dc:subject/>
  <dc:title>Welcome ! </dc:title>
</cp:coreProperties>
</file>